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6B0-BC52-491F-BF89-26961337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2AD-AF3F-417D-94EA-D5065B10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122-FFBF-4437-A16E-AE330FFE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2EB-C684-4A61-980F-36113C56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3DA-A583-47D7-9BB6-9B3B0A9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FF2-27D4-4ED2-89A3-4F5150C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A2C-80BF-459E-A460-428796CB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D2F-0FBC-4354-B7FA-5A582FCE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377-5EFC-4127-B4C2-7F7817BD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1E2-F5C6-4338-91A1-54A4D77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F4C-FE66-4CE3-9F4D-891BD042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CAF-90DD-42A1-8EC4-5785101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1A5-1F0A-465C-B0EB-D139A259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4120" y="228600"/>
            <a:ext cx="35812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yp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666880" y="1676520"/>
            <a:ext cx="3657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2:49:54Z</dcterms:created>
  <dc:creator>User</dc:creator>
  <dc:description/>
  <dc:language>en-US</dc:language>
  <cp:lastModifiedBy>User</cp:lastModifiedBy>
  <dcterms:modified xsi:type="dcterms:W3CDTF">2009-12-08T13:19:22Z</dcterms:modified>
  <cp:revision>2</cp:revision>
  <dc:subject/>
  <dc:title>Presentación de PowerPoint</dc:title>
</cp:coreProperties>
</file>